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04611"/>
        <c:axId val="15659736"/>
      </c:barChart>
      <c:catAx>
        <c:axId val="343046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59736"/>
        <c:crosses val="autoZero"/>
        <c:auto val="1"/>
        <c:lblAlgn val="ctr"/>
        <c:lblOffset val="100"/>
        <c:noMultiLvlLbl val="0"/>
      </c:catAx>
      <c:valAx>
        <c:axId val="156597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046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94D6-D91E-4E18-B198-850BD9E9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A50-A573-461D-B3D2-887348A9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9E8-3CE4-4CB9-B75D-75B0A05A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B11-31F8-4A4A-B506-A293E2B37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37A-E3A9-4103-9869-07D08940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4655-32BB-4F12-84F8-AAD4FE2B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2223-1210-48F0-937B-A5BBB9673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B4E3-3C23-412F-B62F-C896A5C0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BEA9-FD1C-4CD2-B768-6477CAD9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A63B-A2D4-45E1-923E-D16117F9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2B6F-4404-43FF-8E5B-2511A4BB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8CC-A539-4A32-BB83-0474697B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DC35C-EF7F-4872-BE59-D5DF8F3BEC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